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56772"/>
        <c:axId val="52519759"/>
      </c:barChart>
      <c:catAx>
        <c:axId val="62556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19759"/>
        <c:crosses val="autoZero"/>
        <c:auto val="1"/>
        <c:lblAlgn val="ctr"/>
        <c:lblOffset val="100"/>
        <c:noMultiLvlLbl val="0"/>
      </c:catAx>
      <c:valAx>
        <c:axId val="52519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56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AC2-CE40-4233-8E1B-CAE109D6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304-E661-4A03-A2FB-A15B295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B21-7FEB-4444-A50C-AFB9FAB5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415-D11C-4F2D-8430-8BCA590D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84A-A2C0-4BBA-8574-AFA4903F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CD1-66A3-461F-9816-1A491C8D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9FB-CFDE-4312-B351-DA0E60C2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036-D6A8-4169-94F3-8EB9C98B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5BA-5289-49E6-AF74-F0134EC5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14B-CCFC-4538-960B-C7BF1025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938-E4DB-495E-BF03-F7AEAB24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565-968C-4789-9F31-77ECF98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90B3F-654B-4824-A026-9FC146E87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